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3928-71F1-414F-8C4D-CA018C0F7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EB0-B3C3-45FA-9D34-0018D736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8E5-E9B5-4453-97BA-B46E84ADB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5C2C-9B0B-483F-8331-E4B28AD6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532-D496-48EF-9966-AB4F8775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761-D2EE-4648-83D5-D88899AF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A84-30BB-4ACF-8A5D-A10F0F0E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E64-9DEF-4C76-A711-35CEFAB2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DB5-4B1C-4085-B598-14FAF07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3F5-6B37-4FAC-9987-499B1C9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CEF-7BBD-4A5E-9459-B590CFCB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C0D-5163-46B7-989B-C85840AC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89C-55FD-428D-85D8-21AA4D93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4EC-EC31-47B5-8171-11A5CF1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6C4-B3AE-4D00-97CF-6D2C63EA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327-60DA-456A-AEEB-ECB291F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476F-AA4F-4189-AB55-048F0BBB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3/37_Lyndon_Johnson_3x4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imdb.com/rg/mediaindex/thumbnail/media/rm1416206336/nm0000069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imdb.com/rg/mediaindex/thumbnail/media/rm1503631360/nm0000054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hyperlink" Target="http://z.about.com/d/womenshistory/1/0/z/I/jackie_kennedy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3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hyperlink" Target="http://www.time.com/time/2003/jfk/photoessay/5.html" TargetMode="External"/><Relationship Id="rId8" Type="http://schemas.openxmlformats.org/officeDocument/2006/relationships/image" Target="../media/image14.png"/><Relationship Id="rId9" Type="http://schemas.openxmlformats.org/officeDocument/2006/relationships/hyperlink" Target="http://www.time.com/time/2003/jfk/photoessay/2.html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3520" y="533520"/>
            <a:ext cx="12114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4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165400" y="2438280"/>
            <a:ext cx="35388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3399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307080"/>
          </a:xfrm>
          <a:prstGeom prst="rect">
            <a:avLst/>
          </a:prstGeom>
          <a:solidFill>
            <a:srgbClr val="f5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urlz MT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9528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80120"/>
            <a:ext cx="38124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76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257800"/>
            <a:ext cx="3952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76200" y="5257800"/>
            <a:ext cx="419400" cy="5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3"/>
          <a:stretch/>
        </p:blipFill>
        <p:spPr>
          <a:xfrm>
            <a:off x="152280" y="6095880"/>
            <a:ext cx="39384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103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 much to blog about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6"/>
          <a:stretch/>
        </p:blipFill>
        <p:spPr>
          <a:xfrm>
            <a:off x="1255680" y="6126120"/>
            <a:ext cx="420840" cy="488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143000" y="659592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iv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h Jacob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id you do on your Chemistry mid-term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65400" y="38098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8"/>
          <a:stretch/>
        </p:blipFill>
        <p:spPr>
          <a:xfrm>
            <a:off x="2133720" y="3141720"/>
            <a:ext cx="393480" cy="501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hair is so short! It will never grow back ou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4597560"/>
            <a:ext cx="417240" cy="431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 River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smoky! Nice going in the lab today! Los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43080" y="51814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 you have a better evening than you did in class today! I’ll stop by later to check on you! Love ya gir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1"/>
          <a:stretch/>
        </p:blipFill>
        <p:spPr>
          <a:xfrm>
            <a:off x="2143080" y="5791320"/>
            <a:ext cx="39852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times I just need to vent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2080" y="53352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 a Relationship with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eth Jac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ating Pizza! Spending time with my friends Keisha, Roger, &amp; 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ck, Surfing the Internet, and Talking to my 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pop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he Twilight Movies, A Walk to Reme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ret Life of the American Teenager, Pretty Little Liars, and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ne Tree H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, Dear John, The Last 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2120" y="52578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9144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ger’s He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56360"/>
            <a:ext cx="685800" cy="412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ew Track Sh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Apartment with my Mom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543) 555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ib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b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-Bun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105520"/>
            <a:ext cx="86544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6"/>
          <a:stretch/>
        </p:blipFill>
        <p:spPr>
          <a:xfrm>
            <a:off x="2133720" y="51814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3786120" y="510552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198360" y="533520"/>
            <a:ext cx="5050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10"/>
          <a:stretch/>
        </p:blipFill>
        <p:spPr>
          <a:xfrm>
            <a:off x="22096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1"/>
          <a:stretch/>
        </p:blipFill>
        <p:spPr>
          <a:xfrm>
            <a:off x="3505320" y="192564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2"/>
          <a:stretch/>
        </p:blipFill>
        <p:spPr>
          <a:xfrm>
            <a:off x="5221440" y="1905120"/>
            <a:ext cx="113976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3"/>
          <a:stretch/>
        </p:blipFill>
        <p:spPr>
          <a:xfrm>
            <a:off x="838080" y="3200400"/>
            <a:ext cx="10400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4"/>
          <a:stretch/>
        </p:blipFill>
        <p:spPr>
          <a:xfrm>
            <a:off x="2133720" y="32004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5"/>
          <a:stretch/>
        </p:blipFill>
        <p:spPr>
          <a:xfrm>
            <a:off x="3662280" y="3200400"/>
            <a:ext cx="1044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am_2</cp:lastModifiedBy>
  <dcterms:modified xsi:type="dcterms:W3CDTF">2010-10-02T20:39:50Z</dcterms:modified>
  <cp:revision>34</cp:revision>
  <dc:subject/>
  <dc:title>Profile</dc:title>
</cp:coreProperties>
</file>