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5DC-0360-4C37-8B9F-BDE1D28D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665A-5A76-4B2D-9F03-C8E2A5262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AE0E-2BA6-4A64-82B6-A17C6DA1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96CD-9DF9-4660-94FB-551FF2CC5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259-2A34-4028-89CF-A89FBBA4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A09-C422-49EE-ADE0-85F31ACF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0F8-A1D9-4E0D-8D16-6707C468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1D6-1840-4812-8FF0-C99DD9B8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0F2-5353-4FE7-9D3C-6976FCBB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BC6-A6BB-4382-AC75-0C403D72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1E8-8BD5-4B19-B589-A9AB99B0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D91-0EF6-4BB1-83ED-0B75D3F0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EAC-FF83-4352-9813-54262449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750-0B53-4E37-BE28-C435994E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164-74EC-4240-860F-A22843B1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98E-A82B-407C-90D3-3E3DD5D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70CF-94FF-46B0-8C6B-6A872A57E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c/c3/37_Lyndon_Johnson_3x4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imdb.com/rg/mediaindex/thumbnail/media/rm1416206336/nm0000069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imdb.com/rg/mediaindex/thumbnail/media/rm1503631360/nm0000054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jpeg"/><Relationship Id="rId14" Type="http://schemas.openxmlformats.org/officeDocument/2006/relationships/hyperlink" Target="http://z.about.com/d/womenshistory/1/0/z/I/jackie_kennedy.jpg" TargetMode="External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3.jpeg"/><Relationship Id="rId18" Type="http://schemas.openxmlformats.org/officeDocument/2006/relationships/image" Target="../media/image10.jpeg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hyperlink" Target="http://www.time.com/time/2003/jfk/photoessay/5.html" TargetMode="External"/><Relationship Id="rId8" Type="http://schemas.openxmlformats.org/officeDocument/2006/relationships/image" Target="../media/image14.png"/><Relationship Id="rId9" Type="http://schemas.openxmlformats.org/officeDocument/2006/relationships/hyperlink" Target="http://www.time.com/time/2003/jfk/photoessay/2.html" TargetMode="Externa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3520" y="533520"/>
            <a:ext cx="12114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4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2165400" y="2438280"/>
            <a:ext cx="35388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ff3399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307080"/>
          </a:xfrm>
          <a:prstGeom prst="rect">
            <a:avLst/>
          </a:prstGeom>
          <a:solidFill>
            <a:srgbClr val="f5c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urlz MT"/>
              </a:rPr>
              <a:t>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49528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80120"/>
            <a:ext cx="381240" cy="511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76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5640" y="5257800"/>
            <a:ext cx="3952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76200" y="5257800"/>
            <a:ext cx="419400" cy="533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3"/>
          <a:stretch/>
        </p:blipFill>
        <p:spPr>
          <a:xfrm>
            <a:off x="152280" y="6095880"/>
            <a:ext cx="39384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1032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so much to blog about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6"/>
          <a:stretch/>
        </p:blipFill>
        <p:spPr>
          <a:xfrm>
            <a:off x="1255680" y="6126120"/>
            <a:ext cx="420840" cy="488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143000" y="659592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iv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h Jacob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w did you do on your Chemistry mid-term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65400" y="38098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8"/>
          <a:stretch/>
        </p:blipFill>
        <p:spPr>
          <a:xfrm>
            <a:off x="2133720" y="3141720"/>
            <a:ext cx="393480" cy="501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hair is so short! It will never grow back out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4597560"/>
            <a:ext cx="417240" cy="431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 Rivera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y smoky! Nice going in the lab today! Loser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43080" y="51814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 you have a better evening than you did in class today! I’ll stop by later to check on you! Love ya gir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1"/>
          <a:stretch/>
        </p:blipFill>
        <p:spPr>
          <a:xfrm>
            <a:off x="2143080" y="5791320"/>
            <a:ext cx="39852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metimes I just need to vent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2080" y="533520"/>
            <a:ext cx="121284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3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4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n a Relationship with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eth Jaco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ating Pizza! Spending time with my friends Keisha, Roger, &amp; 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ck, Surfing the Internet, and Talking to my 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nything pop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, The Twilight Movies, A Walk to Reme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ecret Life of the American Teenager, Pretty Little Liars, and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ne Tree H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, Dear John, The Last 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2120" y="52578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9144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oger’s Hea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156360"/>
            <a:ext cx="685800" cy="412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9907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New Track Sho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Apartment with my Mom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543) 555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2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3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ib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by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-Bun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h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105520"/>
            <a:ext cx="86544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6"/>
          <a:stretch/>
        </p:blipFill>
        <p:spPr>
          <a:xfrm>
            <a:off x="2133720" y="51814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3786120" y="510552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8"/>
          <a:stretch/>
        </p:blipFill>
        <p:spPr>
          <a:xfrm>
            <a:off x="198360" y="533520"/>
            <a:ext cx="5050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10"/>
          <a:stretch/>
        </p:blipFill>
        <p:spPr>
          <a:xfrm>
            <a:off x="22096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1"/>
          <a:stretch/>
        </p:blipFill>
        <p:spPr>
          <a:xfrm>
            <a:off x="3505320" y="192564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2"/>
          <a:stretch/>
        </p:blipFill>
        <p:spPr>
          <a:xfrm>
            <a:off x="5221440" y="1905120"/>
            <a:ext cx="113976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3"/>
          <a:stretch/>
        </p:blipFill>
        <p:spPr>
          <a:xfrm>
            <a:off x="838080" y="3200400"/>
            <a:ext cx="104004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4"/>
          <a:stretch/>
        </p:blipFill>
        <p:spPr>
          <a:xfrm>
            <a:off x="2133720" y="32004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5"/>
          <a:stretch/>
        </p:blipFill>
        <p:spPr>
          <a:xfrm>
            <a:off x="3662280" y="3200400"/>
            <a:ext cx="1044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Adam_2</cp:lastModifiedBy>
  <dcterms:modified xsi:type="dcterms:W3CDTF">2010-10-02T20:39:50Z</dcterms:modified>
  <cp:revision>34</cp:revision>
  <dc:subject/>
  <dc:title>Profile</dc:title>
</cp:coreProperties>
</file>