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93FF-252E-4036-8DB1-7056F5DD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0DEE-9F55-440B-AF17-42CF05BE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9106-B583-45D8-9CA8-1FBF8029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9D3-BB98-4910-9F7C-74AB641D5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2A1-EA3C-4B1F-B22F-7FEBC161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E32-2A44-41FD-9C7C-72EF8118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DB5-D587-42CA-9569-188DFD13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D65-A5AD-4D4A-B404-9DE09309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526-3C63-48A6-9C0D-C99109C3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121-FF2C-47CA-8C58-5A93A9A1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7EC-BCFC-472C-9D32-D5965953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BBA-9B8C-422E-91E1-EE26FA14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1A2-8DE7-419F-8AB8-8DB03FD1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806-7646-4A44-83F0-497BE51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3F8-7A4B-40F3-B5B8-D3C86A4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D89-67F5-418E-AD5D-53334D7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474-EC99-4225-8871-94704ACED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hyperlink" Target="http://upload.wikimedia.org/wikipedia/commons/c/c3/37_Lyndon_Johnson_3x4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imdb.com/rg/mediaindex/thumbnail/media/rm1416206336/nm0000069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www.imdb.com/rg/mediaindex/thumbnail/media/rm1503631360/nm0000054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hyperlink" Target="http://z.about.com/d/womenshistory/1/0/z/I/jackie_kennedy.jpg" TargetMode="External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3.jpeg"/><Relationship Id="rId18" Type="http://schemas.openxmlformats.org/officeDocument/2006/relationships/image" Target="../media/image10.jpeg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slide" Target="slide1.xml"/><Relationship Id="rId6" Type="http://schemas.openxmlformats.org/officeDocument/2006/relationships/slide" Target="slide3.xml"/><Relationship Id="rId7" Type="http://schemas.openxmlformats.org/officeDocument/2006/relationships/hyperlink" Target="http://www.time.com/time/2003/jfk/photoessay/5.html" TargetMode="External"/><Relationship Id="rId8" Type="http://schemas.openxmlformats.org/officeDocument/2006/relationships/image" Target="../media/image14.png"/><Relationship Id="rId9" Type="http://schemas.openxmlformats.org/officeDocument/2006/relationships/hyperlink" Target="http://www.time.com/time/2003/jfk/photoessay/2.html" TargetMode="External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jpe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3520" y="533520"/>
            <a:ext cx="12114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4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2165400" y="2438280"/>
            <a:ext cx="35388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ff3399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307080"/>
          </a:xfrm>
          <a:prstGeom prst="rect">
            <a:avLst/>
          </a:prstGeom>
          <a:solidFill>
            <a:srgbClr val="f5c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urlz MT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495288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80120"/>
            <a:ext cx="381240" cy="511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76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5640" y="5257800"/>
            <a:ext cx="3952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276200" y="5257800"/>
            <a:ext cx="419400" cy="533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7913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3"/>
          <a:stretch/>
        </p:blipFill>
        <p:spPr>
          <a:xfrm>
            <a:off x="152280" y="6095880"/>
            <a:ext cx="39384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1032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so much to blog about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6"/>
          <a:stretch/>
        </p:blipFill>
        <p:spPr>
          <a:xfrm>
            <a:off x="1255680" y="6126120"/>
            <a:ext cx="420840" cy="488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143000" y="659592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iv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h Jacob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w did you do on your Chemistry mid-term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65400" y="38098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8"/>
          <a:stretch/>
        </p:blipFill>
        <p:spPr>
          <a:xfrm>
            <a:off x="2133720" y="3141720"/>
            <a:ext cx="393480" cy="501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hair is so short! It will never grow back out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4597560"/>
            <a:ext cx="417240" cy="431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 Rivera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y smoky! Nice going in the lab today! Loser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43080" y="5181480"/>
            <a:ext cx="398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 you have a better evening than you did in class today! I’ll stop by later to check on you! Love ya gir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1"/>
          <a:stretch/>
        </p:blipFill>
        <p:spPr>
          <a:xfrm>
            <a:off x="2143080" y="5791320"/>
            <a:ext cx="39852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metimes I just need to vent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62080" y="533520"/>
            <a:ext cx="121284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3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4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ibb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ibb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5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6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76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urlz MT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Yeardley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In a Relationship with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eth Jacob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oo young to vo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elie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ating Pizza! Spending time with my friends Keisha, Roger, &amp; Se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Track, Surfing the Internet, and Talking to my 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nything pop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Notebook, The Twilight Movies, A Walk to Reme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ecret Life of the American Teenager, Pretty Little Liars, and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One Tree H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wilight, Dear John, The Last 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2120" y="52578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9144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oger’s Hea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156360"/>
            <a:ext cx="685800" cy="412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9907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New Track Sho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Apartment with my Mom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543) 555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by Fawc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2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3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ibb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by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-Bun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th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105520"/>
            <a:ext cx="86544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6"/>
          <a:stretch/>
        </p:blipFill>
        <p:spPr>
          <a:xfrm>
            <a:off x="2133720" y="51814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3786120" y="510552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bby Fawcet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so much to blog abou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8"/>
          <a:stretch/>
        </p:blipFill>
        <p:spPr>
          <a:xfrm>
            <a:off x="198360" y="533520"/>
            <a:ext cx="5050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10"/>
          <a:stretch/>
        </p:blipFill>
        <p:spPr>
          <a:xfrm>
            <a:off x="2209680" y="1905120"/>
            <a:ext cx="114012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1"/>
          <a:stretch/>
        </p:blipFill>
        <p:spPr>
          <a:xfrm>
            <a:off x="3505320" y="192564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2"/>
          <a:stretch/>
        </p:blipFill>
        <p:spPr>
          <a:xfrm>
            <a:off x="5221440" y="1905120"/>
            <a:ext cx="113976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3"/>
          <a:stretch/>
        </p:blipFill>
        <p:spPr>
          <a:xfrm>
            <a:off x="838080" y="3200400"/>
            <a:ext cx="104004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4"/>
          <a:stretch/>
        </p:blipFill>
        <p:spPr>
          <a:xfrm>
            <a:off x="2133720" y="32004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5"/>
          <a:stretch/>
        </p:blipFill>
        <p:spPr>
          <a:xfrm>
            <a:off x="3662280" y="3200400"/>
            <a:ext cx="1044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Adam_2</cp:lastModifiedBy>
  <dcterms:modified xsi:type="dcterms:W3CDTF">2010-10-02T20:39:50Z</dcterms:modified>
  <cp:revision>34</cp:revision>
  <dc:subject/>
  <dc:title>Profile</dc:title>
</cp:coreProperties>
</file>